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50A1-AD6A-4177-A29D-CBB3DCB0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B46-7DCF-487C-9A54-90F1C25B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98A7-999E-46FC-9B0B-6FF330E1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AB6-3AF2-4D30-8A58-7A553CE5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720A-4199-4C49-9776-4F6C165C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5036-2B9F-4A92-A32B-9F6A7664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70AB-675B-490E-9BDD-D595D16A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9A72-856B-44E3-9196-12AFC0FC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D3EA-E055-44FC-9A86-12CBD9CA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DC12-3BFF-430E-90D7-293829B2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51B0-C38D-452C-92EC-D372C433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21F-27D9-4B3A-A6F7-959383BF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EE70-CD68-468C-BDC7-C750395C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A346-8042-49D2-B6BA-19D214C8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66F8-9114-4BA0-B013-F1671106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D845-E8E4-4CF4-9DC6-540E49C5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1E91-4E8C-48F3-8F62-0299458A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B55-32A6-4950-A4D2-0871DD04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BBB-77EB-4F04-A677-B09733F5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F55-B48E-428A-BB10-5D3EEE71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374-2074-4902-AFFC-DEE116DE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CFF-1A37-4583-A595-2AB1BC23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820-6956-477D-BBCD-6526D8F4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70B-EB92-47C2-9A1B-6E1CEE2E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db9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db96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db96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db96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db96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db9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7F17-C209-47A8-8384-13E594E64F4D}" type="slidenum">
              <a:rPr b="0" lang="es-ES_tradnl" sz="1400" spc="-1" strike="noStrike">
                <a:solidFill>
                  <a:srgbClr val="ffdb9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db9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db96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db96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db96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db96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db9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CA7B-E283-4084-A9AF-670D8FB727CB}" type="slidenum">
              <a:rPr b="0" lang="de-DE" sz="1400" spc="-1" strike="noStrike">
                <a:solidFill>
                  <a:srgbClr val="ffdb9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b9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b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b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db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b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db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b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db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b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db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b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5680" y="1371600"/>
            <a:ext cx="70502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db96"/>
                </a:solidFill>
                <a:latin typeface="Arial"/>
              </a:rPr>
              <a:t>¿QUÉ HACER EL AÑO 0?</a:t>
            </a: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db96"/>
                </a:solidFill>
                <a:latin typeface="Arial"/>
              </a:rPr>
              <a:t>¿Por dónde empiezo?</a:t>
            </a: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b96"/>
                </a:solidFill>
                <a:latin typeface="Arial"/>
              </a:rPr>
              <a:t>PLAN DE FOMENTO DEL PLURILINGÜISMO</a:t>
            </a:r>
            <a:br>
              <a:rPr sz="2800"/>
            </a:br>
            <a:r>
              <a:rPr b="1" i="1" lang="es-ES_tradnl" sz="1800" spc="-1" strike="noStrike">
                <a:solidFill>
                  <a:srgbClr val="ffdb96"/>
                </a:solidFill>
                <a:latin typeface="Arial"/>
              </a:rPr>
              <a:t>UNA POLÍTICA LINGÜÍSTICA PARA LA SOCIEDAD ANDALUZA</a:t>
            </a:r>
            <a:endParaRPr b="0" i="1" lang="en-US" sz="18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db96"/>
                </a:solidFill>
                <a:latin typeface="Arial"/>
              </a:rPr>
              <a:t>Existen diferentes medidas y regulaciones a dicho plan, las más significativas:</a:t>
            </a: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b96"/>
                </a:solidFill>
                <a:latin typeface="Arial"/>
              </a:rPr>
              <a:t>Orden de 24 de Junio de 2006</a:t>
            </a:r>
            <a:r>
              <a:rPr b="0" lang="es-ES_tradnl" sz="2800" spc="-1" strike="noStrike">
                <a:solidFill>
                  <a:srgbClr val="ffdb96"/>
                </a:solidFill>
                <a:latin typeface="Arial"/>
              </a:rPr>
              <a:t> por la que se regulan determinados aspectos sobre la organización y funcionamiento de los Centros Bilingües.</a:t>
            </a: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b96"/>
                </a:solidFill>
                <a:latin typeface="Arial"/>
              </a:rPr>
              <a:t>Instrucciones de 31 de Julio de 2008 </a:t>
            </a:r>
            <a:r>
              <a:rPr b="0" lang="es-ES_tradnl" sz="2800" spc="-1" strike="noStrike">
                <a:solidFill>
                  <a:srgbClr val="ffdb96"/>
                </a:solidFill>
                <a:latin typeface="Arial"/>
              </a:rPr>
              <a:t>de la Dirección General de Innovación Educativa sobre la organización y funcionamiento de los Centros Bilingües para el curso 2008/2009.</a:t>
            </a: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db96"/>
                </a:solidFill>
                <a:latin typeface="Arial"/>
              </a:rPr>
              <a:t>¿QUÉ HACER EN EL AÑO 0?</a:t>
            </a: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db96"/>
                </a:solidFill>
                <a:latin typeface="Arial"/>
              </a:rPr>
              <a:t>1. Conocimiento de normativa esencial sobre el tema, el marco legal que lo rige de esfera amplia a específica.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db96"/>
                </a:solidFill>
                <a:latin typeface="Arial"/>
              </a:rPr>
              <a:t>¿QUÉ HACER EN EL AÑO O?</a:t>
            </a:r>
            <a:endParaRPr b="0" i="1" lang="en-US" sz="4000" spc="-1" strike="noStrike">
              <a:solidFill>
                <a:srgbClr val="ffdb96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46160" y="2486160"/>
          <a:ext cx="7340760" cy="21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6160" y="2486160"/>
                    <a:ext cx="7340760" cy="21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5053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db96"/>
                </a:solidFill>
                <a:latin typeface="Arial"/>
              </a:rPr>
              <a:t>MARCO COMÚN EUROPEO DE REFERENCIA PARA LAS LEGUAS:</a:t>
            </a:r>
            <a:r>
              <a:rPr b="1" i="1" lang="es-ES_tradnl" sz="3200" spc="-1" strike="noStrike">
                <a:solidFill>
                  <a:srgbClr val="ffdb96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ffdb96"/>
                </a:solidFill>
                <a:latin typeface="Arial"/>
              </a:rPr>
              <a:t>APRENDIZAJE, ENSEÑANZA Y EVALUACIÓN.</a:t>
            </a:r>
            <a:endParaRPr b="0" i="1" lang="en-US" sz="2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db96"/>
                </a:solidFill>
                <a:latin typeface="Arial"/>
              </a:rPr>
              <a:t>Es un instrumento NO NORMATIVO en el que se describen las competencias comunicativas, contenidos procedimentales y actitudes que deben utilizar todos los Estados miembros, para unificar criterios sobre el aprendizaje de lenguas.</a:t>
            </a:r>
            <a:endParaRPr b="0" lang="en-US" sz="2400" spc="-1" strike="noStrike">
              <a:solidFill>
                <a:srgbClr val="ffdb9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b9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db96"/>
                </a:solidFill>
                <a:latin typeface="Arial"/>
              </a:rPr>
              <a:t>Se trata de buscar patrones de actuación comunes en el aprendizaje de lenguas entre Países miembros.</a:t>
            </a:r>
            <a:endParaRPr b="0" lang="en-US" sz="24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b96"/>
                </a:solidFill>
                <a:latin typeface="Arial"/>
              </a:rPr>
              <a:t>PORTFOLIO EUROPEO DE LAS LENGUAS</a:t>
            </a:r>
            <a:endParaRPr b="0" i="1" lang="en-US" sz="28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db96"/>
                </a:solidFill>
                <a:latin typeface="Arial"/>
              </a:rPr>
              <a:t>Documento editado por el Consejo de Europa, en el que todo el que aprende o está aprendiendo una lengua, puede llevar un seguimiento de su proceso de aprendizaje.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db96"/>
                </a:solidFill>
                <a:latin typeface="Arial"/>
              </a:rPr>
              <a:t>Es una herramienta meramente motivadora.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db96"/>
                </a:solidFill>
                <a:latin typeface="Arial"/>
              </a:rPr>
              <a:t>CURRÍCULUM INTEGRADO   AICLE / CLIL</a:t>
            </a:r>
            <a:endParaRPr b="0" i="1" lang="en-US" sz="40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db96"/>
                </a:solidFill>
                <a:latin typeface="Arial"/>
              </a:rPr>
              <a:t>Se trata de cómo</a:t>
            </a:r>
            <a:r>
              <a:rPr b="1" lang="es-ES_tradnl" sz="2800" spc="-1" strike="noStrike">
                <a:solidFill>
                  <a:srgbClr val="ffdb96"/>
                </a:solidFill>
                <a:latin typeface="Arial"/>
              </a:rPr>
              <a:t> integrar los contenidos </a:t>
            </a:r>
            <a:r>
              <a:rPr b="0" lang="es-ES_tradnl" sz="2800" spc="-1" strike="noStrike">
                <a:solidFill>
                  <a:srgbClr val="ffdb96"/>
                </a:solidFill>
                <a:latin typeface="Arial"/>
              </a:rPr>
              <a:t>de materias no lingüísticas </a:t>
            </a:r>
            <a:r>
              <a:rPr b="1" lang="es-ES_tradnl" sz="2800" spc="-1" strike="noStrike">
                <a:solidFill>
                  <a:srgbClr val="ffdb96"/>
                </a:solidFill>
                <a:latin typeface="Arial"/>
              </a:rPr>
              <a:t>dentro del aprendizaje de una segunda lengua </a:t>
            </a:r>
            <a:r>
              <a:rPr b="0" lang="es-ES_tradnl" sz="2800" spc="-1" strike="noStrike">
                <a:solidFill>
                  <a:srgbClr val="ffdb96"/>
                </a:solidFill>
                <a:latin typeface="Arial"/>
              </a:rPr>
              <a:t>o bien utilizar la lengua extranjera como vehículo para introducir los contenidos de las ANL, creando una línea de trabajo vertebradora común entre las ANLs, la lengua española y las lenguas extranjeras L2 y L3 (inglés y francés).</a:t>
            </a: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db96"/>
                </a:solidFill>
                <a:latin typeface="Arial"/>
              </a:rPr>
              <a:t>CURRÍCULUM INTEGRADO</a:t>
            </a:r>
            <a:br>
              <a:rPr sz="4000"/>
            </a:br>
            <a:r>
              <a:rPr b="1" lang="es-ES_tradnl" sz="4000" spc="-1" strike="noStrike">
                <a:solidFill>
                  <a:srgbClr val="ffdb96"/>
                </a:solidFill>
                <a:latin typeface="Arial"/>
              </a:rPr>
              <a:t>AICLE  /  CLIL</a:t>
            </a:r>
            <a:endParaRPr b="0" i="1" lang="en-US" sz="4000" spc="-1" strike="noStrike">
              <a:solidFill>
                <a:srgbClr val="ffdb9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50960" y="1981080"/>
            <a:ext cx="58420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32200" y="6143760"/>
            <a:ext cx="335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db96"/>
                </a:solidFill>
                <a:latin typeface="Arial"/>
              </a:rPr>
              <a:t>Fuente: Nina Lauder</a:t>
            </a:r>
            <a:r>
              <a:rPr b="1" lang="es-ES_tradnl" sz="1400" spc="-1" strike="noStrike">
                <a:solidFill>
                  <a:srgbClr val="ffdb96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ffdb96"/>
                </a:solidFill>
                <a:latin typeface="Arial"/>
              </a:rPr>
              <a:t>“Practical Activities</a:t>
            </a:r>
            <a:endParaRPr b="0" lang="en-US" sz="1400" spc="-1" strike="noStrike">
              <a:solidFill>
                <a:srgbClr val="ffdb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db96"/>
                </a:solidFill>
                <a:latin typeface="Arial"/>
              </a:rPr>
              <a:t>For CLIL”. 2007.</a:t>
            </a:r>
            <a:endParaRPr b="0" lang="en-US" sz="14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b96"/>
                </a:solidFill>
                <a:latin typeface="Arial"/>
              </a:rPr>
              <a:t>PLAN DE FOMENTO DEL PLURILINGÜISMO</a:t>
            </a:r>
            <a:br>
              <a:rPr sz="2800"/>
            </a:br>
            <a:r>
              <a:rPr b="1" i="1" lang="es-ES_tradnl" sz="1800" spc="-1" strike="noStrike">
                <a:solidFill>
                  <a:srgbClr val="ffdb96"/>
                </a:solidFill>
                <a:latin typeface="Arial"/>
              </a:rPr>
              <a:t>UNA POLÍTICA LINGÜÍSTICA PARA LA SOCIEDAD ANDALUZA</a:t>
            </a:r>
            <a:endParaRPr b="0" i="1" lang="en-US" sz="18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db96"/>
                </a:solidFill>
                <a:latin typeface="Arial"/>
              </a:rPr>
              <a:t>Se trata de un programa elaborado por la Junta de Andalucía cuyo objetivo es promover el aprendizaje de idiomas y la diversidad lingüística, mediante una serie de acciones específicas:</a:t>
            </a:r>
            <a:endParaRPr b="0" lang="en-US" sz="40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b96"/>
                </a:solidFill>
                <a:latin typeface="Arial"/>
              </a:rPr>
              <a:t>PLAN DE FOMENTO DEL PLURILINGÜISMO</a:t>
            </a:r>
            <a:br>
              <a:rPr sz="2800"/>
            </a:br>
            <a:r>
              <a:rPr b="1" i="1" lang="es-ES_tradnl" sz="1800" spc="-1" strike="noStrike">
                <a:solidFill>
                  <a:srgbClr val="ffdb96"/>
                </a:solidFill>
                <a:latin typeface="Arial"/>
              </a:rPr>
              <a:t>UNA POLÍTICA LINGÜÍSTICA PARA LA SOCIEDAD ANDALUZA</a:t>
            </a:r>
            <a:endParaRPr b="0" i="1" lang="en-US" sz="18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Ampliación del número de horas dedicadas al estudio de las lenguas en el currículum.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Establecimiento de Centros Bilingües en los que se usará la lengua extranjera en la enseñanza de las diversas áreas y materias del currículum.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Desarrollo de un nuevo diseño curricular integrado de las lenguas.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Reforma y ampliación de la Educación de Idiomas a Distancia y Online.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Incorporación de auxiliares de conversación en los centros bilingües.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Fomento de los intercambios de alumnado y profesorado.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Fomento de la participación de los centros educativos en Programas Europeos: Comenius, Leonardo da Vinci, Grundtvig, Visitas de estudio…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Elaboración de un plan de seguimiento del conjunto de iniciativas vinculadas al Plan de Fomento del Plurilingüismo.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Incremento del profesorado especializado en la enseñanza de idiomas en Centros Bilingües.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2:05:52Z</dcterms:created>
  <dc:creator>Usuario de Office 2004 Test Drive</dc:creator>
  <dc:description/>
  <dc:language>en-US</dc:language>
  <cp:lastModifiedBy>Usuario de Office 2004 Test Drive</cp:lastModifiedBy>
  <dcterms:modified xsi:type="dcterms:W3CDTF">2008-10-12T18:45:29Z</dcterms:modified>
  <cp:revision>8</cp:revision>
  <dc:subject/>
  <dc:title>¿QUÉ HACER EN EL AÑO 0?</dc:title>
</cp:coreProperties>
</file>